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A2E5-5AC8-4BDC-80D9-978B7E27A3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consists of four main components, as shown in Figure 4-19: management appl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infrastructure, providers, and managed objects. Management applications are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that access and display or process data that the applications obtain ab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d objects. A simple example of a management application is a Performance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ment that relies on WMI rather than the Performance API to obtain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. A more complex example is an enterprise-management tool that lets administr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 automated inventories of the software and hardware configuration of e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uter in their enterpri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MI infrastructure, the heart of which is the Common Information Model (CIM) 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r (CIMOM), is the glue that binds management applications and providers. (CIM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bed later in this chapter.) The infrastructure also serves as the object-class store and,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 cases, as the storage manager for persistent object properties. WMI implement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, or repository, as an on-disk database named the CIMOM Object Repository. As p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infrastructure, WMI supports several APIs through which management applications a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data and providers supply data and class definitio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programs use the WMI COM API, the primary management API, to directly inte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 WMI. Other APIs layer on top of the COM API and include an Open Database Conne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DBC) adapter for the Microsoft Access database application. A database develo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s the WMI ODBC adapter to embed references to object data in the developer’s databa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developer can easily generate reports with database queries that contain WMI-ba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. WMI ActiveX controls support another layered API. Web developers use the Acti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s to construct Web-based interfaces to WMI data. Another management API i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API, for use in script-based applications and Microsoft Visual Basic progra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support exists for all Microsoft programming language technolog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they are for management applications, WMI COM interfaces constitute the primary API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rs. However, unlike management applications, which are COM clients, providers 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 or Distributed COM (DCOM) servers (that is, the providers implement COM ob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WMI interacts with). Possible embodiments of a WMI provider include DLLs that 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o WMI’s manager process or stand-alone Windows applications or Windows servi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includes a number of built-in providers that present data from well-known sourc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the Performance API, the registry, the Event Manager, Active Directory, SNM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Driver Model (WDM) device drivers. The WMI SDK lets developers develop third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provid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discusses the scripting mechanisms (Windows Scripting Host, VBScript, Windows Management Instrumentation Scripting, Services for Unix, etc) available in Windows and uses a number of case study scenarios to compare those with UNIX scrip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more, the reader is encouraged to familiarize himself with the Windows way of accessing and administering OS functionality through GUI-based tools. However, those used to the command line style of programming and administration commonly found in other environments will find (nearly) all the typical tools at four different pl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XP/2000 CD \Support\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Resour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Services for UNIX and the Interix subsystem (with a complete POSIX subsystem and an enormous amount of GNU tools compiled for the Windows 2000 platfor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0147-36F6-40D6-8C14-BA4D099B75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ttle Softway his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Systems was started in September 1995 concurrent with a unique source license from MS that enabled Softway to take the MS POSIX subsystem (which was a GREAT proof-of-concept), and make it real in INTE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ftway were done they had shipped ~40,000 paid s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was originally shipped under the technology brand of “OpenNT”.  It was rebranded as INTERIX in the Spring of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had strategic relationships with Dell (every government workstation and server were bundled with Softway INTERIX Workstation-Lite) and UNISYS for certain government plat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UNIX applications and scripts on Windows NT” means that one recompiles the source code of any programs as a native NT binary that behaves correctly (as if it was UNIX).  This is not a binary emulation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set of slides is based on a presentation given by Stephen R. Walli, Interix Product Unit Manager, Microsoft, at the TechEd 20000 conference in Amsterdam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6590-B82F-4B28-9E08-4D8B9A4C64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sh, csh with full job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 300 utilities, including scripting tools such as awk, sed, perl, Tcl/T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D sockets mapped to Winsoc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 mapped fi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ID IPC mechanisms: semaphores, message queues and shared memo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-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or curses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ility to exec Win32 applications from Interi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 tty semantics mapped to console window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 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link support, true case sensitive file nam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ll integration with Windows NT security model, administration, file systems, networking and print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POSIX.1 and POSIX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11R5 clients such as xterm, twm, xrdb, and xlscli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daemons running as Windows NT servic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user logi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etd, telnetd, rlogind, rshd, syslogd, talkd, ftpd and their cli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o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grated tape device sup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EEB2-5E12-4AE7-B1B8-B84C8BFA7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ftware development kit (SDK) included with Interix 2.2, makes it easy to migrate existing UNIX-based applications to the Interix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85DD-079D-4311-8EC9-256E53B16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3157-2948-4BEC-8CD8-347F1C08A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97BA-8824-4950-9241-955126EA4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D2DA-7EF8-475E-B49F-9D078ACB1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4D70-3597-4B84-A380-B9FCC8D27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8078-871A-4544-834F-7EDA99F08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9F13-FCE8-4A05-96B1-9F6AE30B7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44F8-3D2F-4016-BF72-8F6D65107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D9F5-60B0-46B3-B7E0-D0EE6CCC3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670E-5E8C-413C-8CB1-0335912EA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69C7-3BD6-4564-AA60-C5979F95C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3FD4-91B6-4DCD-9627-4451F3355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8F2B-1AF0-49FD-9519-7559311AD848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2: Script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.1.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onitoring Infrastructure: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a historical view - before WMI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wo native system monitoring mechanisms that have been in NT since its incep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Mon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can work remotely, but suffer several drawbacks with respect to general system manag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groups of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dire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to only performance data and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810D-2414-418D-AE57-1AA73D258B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anagement Infrastructure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a historical view - before 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T management mechanis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 Contro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change configuration, but no notifications/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anaging computer membership in dom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ing computer OS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guring user and group accou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ations of the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general: limited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manage all aspects of a computer’s system configuration, software, or hardware devices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natively scriptable, Non-exten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268C-C415-4737-BCEA-ACBE633DA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’s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locally and remo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-gr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directi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MI “provider” can export functional interface and event notification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s can write their own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writers can leverage WMI-provider framework, called the WDM provider, to management-enable their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crip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natively .NET programmable when .NET Framework is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638E-BF7D-491C-AA64-911F947FEF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 - a closer loo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Database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eb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37160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/C++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DBC (deprecat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ctiveX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200400"/>
            <a:ext cx="57913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dows Management A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191120"/>
            <a:ext cx="365760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Object Manager (CIMO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191120"/>
            <a:ext cx="152388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reposi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1814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60958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19051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733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952880"/>
            <a:ext cx="426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8360" y="38098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8360" y="47242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13716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191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5257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6095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d ob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7D4F-C37B-46C7-A4D1-535CDF5280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appli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applications that access and display or process the data that they obtain about managed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. Perfmon or event viewer replac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d as a Windows Service: Winmgmt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s heart is the CIM Object Manager (CIMO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ue that binds management applications to 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serves as object-class store, and as storage for persistent object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cture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ary API is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s layer on top of 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DBC adap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MI ActiveX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ripting A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8260-8531-4814-8E3C-D1224D5BA1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Managed Resour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3818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or physical component, which is exposed and manageable by using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s, peripheral devices, event logs, files, folders, file systems, networking component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subsystems, performance counters, printers, processes, registry, security, services, sha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users and groups, Active Directory, Windows Installer, Windows Driver Model (WDM) device drivers, SNMP Management Information Base (MI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MI managed resource communicates with WMI through a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BD43-DF6A-4B32-9C51-C15C629866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Infra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dle layer is the WMI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for definition of and accessed to configuration and managemen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sists of three primary compon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IM Object Manager (CIMOM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Information Model (CIM) reposito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a fourth, small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370B-69A3-4EFC-BA6E-E90B00D624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ry between WMI and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information from, and send instructions to WMI managed resources on behalf of consumer applications and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the implementation details unique to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d resource is exposed based on WMI's uniform access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 use managed resources’ native APIs, and communicate with the CIMOM using WMI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BB6B-D3F5-431A-AAFD-52D42F0E3C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-on providers can expose management functions unique to a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Systems Management Server, Internet Information Server, and SQL Server, Exchange Server, Microsoft Office, and many 3rd-party applications include 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re implemented as DLLs or stand-alone execu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ing in %SystemRoot%\system32\wb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cludes many built-in providers for Windows: Performance API, Registry, Event Manager, Active Directory, SNMP, WDM,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DK lets third-parties develop 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D727-4A0B-4421-8BCE-BBCBA90E04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providers are COM or DCOM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rt objects that have properties and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classes that are stored in CIMOM 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xecutes in-process providers (as opposed to those in dedicated application processes) in a separat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corruption of the RPC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cess is placed in a Job to limit resource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485D-B4BA-4446-8732-EAE431AB13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C2AA-B1BA-46AB-932A-2584F8B1A91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ist of Standard 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143000"/>
          <a:ext cx="9144000" cy="545148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676520"/>
                <a:gridCol w="457200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p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Directo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irectory\ld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s Active Directory objects to W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Log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evt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 Windows event logs, for example, read, backup, clear, copy, delete, monitor, rename, compress, uncompress, and change event log setting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Count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emperf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raw performance dat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d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efau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, write, enumerate, monitor, create, and delete registry keys and val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incl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snm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SNMP MIB data and traps from SNMP-managed devic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DM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m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w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on WDM device driv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32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mwin32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information about the computer, disks, peripheral devices, files, folders, file systems, networking components, printers, processes, security, services, shares, et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Install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about installed softw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B12D-79F0-4772-84B0-B659427B81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O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nformation bro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WMI requests and data flow through the CIM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inside Windows Management Instrumentation service, winmgm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OM provides core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 reg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 processing  - WMI Query Language (W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6638-2820-401B-90E5-93B981A895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Reposi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and management information from different sources can be uniformly represented with a sch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IM is the schema, also called the object repository or class store that models the managed environment and defines every piece of data exposed by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generally represent dynamic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ces of resources can be stored in the CIM, but are generally dynamically retrieved by a provider based on a consumer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8E26-DF95-4AF0-9843-8C6DC3C718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consist of properties and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ties describe the configuration and state of a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s are executable functions that perform actions on the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Windows XP CIM consists of the following files in %SystemRoot%\system32\wbem\Repository\FS\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btr - Binary-tree (btree) index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data - CIM repository where managed resource definitions are sto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5E46-F3B9-49DE-BFF3-D8131E8E5A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ing Libra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of automation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 languages, such as VBScript, Jscript, and ActiveState's ActivePerl access the WMI infrastructure via these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 consistent and uniform scripting model for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implemented in a single DLL named wbemdisp.dl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es in %SystemRoot%\system32\wbem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a type library named wbemdisp.tl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cripting type library can be used to reference WMI constants from XML-based Windows Script Files, WSH scripts with a .wsf ex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2241-2DE6-4817-A58D-C371FDF3E7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Consum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are the top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sumer is a script, enterprise management application, Web-based application, or other administrative tool, that accesses and controls management information available through the WMI infra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anagement applications serve dual roles as both WMI consumer and WMI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and Systems Management Server are 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869F-53FB-45F2-809E-AE8B844FD3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ntrol (wmimgmt.msc) is a Microsoft Management Console (MMC) snap-in that allows you to configure WMI settings on a local or remote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(wbemtest.exe) is a general-purpose, graphical tool for interacting with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 into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use WMI Tester to browse the CIM schema and examine managed resource class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can also be used to perform the same actions your WMI-based scripts perform, such as retrieving instances of managed resources and running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B28E-955D-4C0B-8F69-72B3A0617A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mmand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d as part of Windows XP Professional and Server 2003, the WMI Command-line tool (wmic.exe) provides a command line interface to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an use wmic.exe to perform common WMI tasks from the command line, including browsing the CIM and examining CIM class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M St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 Studio, part of the WMI SDK, provides a Web-based interface to interact with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et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umClasses.vbs, EnumInstances.vbs, and EnumNamespaces.v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et Script Center - http://www.microsoft.com/technet/community/scriptcenter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49DE-14FE-417C-AC91-04F06CD8B3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popular interface is the script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eed for third-party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like stand-alone utilities, but easily modif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cript.exe is the command-line interface to Windows Script Host (WS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cript scriptname.extension [options..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help, type Cscript /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et Scripting Center has more than hund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Basic scripts that use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technet/community/scriptcenter/default.m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start a process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8400" indent="-23436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cript exec.vbs /s servername /e notep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E5D1-3E9D-4967-85FE-2BA07F3554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mote Process Execu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rpt from exec.vb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03680" y="30542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0240" y="2057400"/>
            <a:ext cx="786168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Connect("root\cimv2"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UserName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Password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Server  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bjService  )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Please check the server name, "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amp; "credentials and WBEM Core.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Message = "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ProcessId = 0Set objInstance = objService.Get("Win32_Process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ErrorOccurred(" occurred getting a " &amp;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" Win32_Process class object.")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objInstance is nothing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Status = objInstance.Create(strCommand, null, null, intProcess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0A46-63FB-4A8C-B705-E5D91BFE56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2.1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Management Instrumentation (W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View on Window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Scripting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-base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X Scripting Support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391F-EE5E-42FA-849B-F1D64062DCC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btain physical memory siz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LogicalMemoryConfiguration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"Total Physical Memory (kb): " &amp; wbemObject.TotalPhysical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DDD2-925C-41F8-838D-9BEA6A2A24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trieve services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Service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Script.Echo "Display Name:  " &amp; wbemObject.DisplayName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te:      " &amp; wbemObject.State      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rt Mode: " &amp; wbemObject.Start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3F64-C646-4F81-B2A7-AB1902BFE4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3280" y="3805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bemtest Ut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305000"/>
            <a:ext cx="4343400" cy="3705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733920" y="3294000"/>
            <a:ext cx="4467240" cy="2698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32000" y="2708280"/>
            <a:ext cx="2376360" cy="792000"/>
          </a:xfrm>
          <a:prstGeom prst="line">
            <a:avLst/>
          </a:prstGeom>
          <a:ln w="38160">
            <a:solidFill>
              <a:srgbClr val="99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A778-4844-43EE-A100-7BD5E3415C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-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ix Subsystem for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ix - a full POSIX subsystem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replaces the original POSIX subsystem on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network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erability between POSIX and Windows subsystems (CreateProcess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 for UNIX (SFU 3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ndled with many essential UNIX tools (X11R5 cl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allows to run UNIX applications and scripts on Windows (after re-compil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52FD-FBC0-472E-9DFC-9EDD7ED163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+ Interix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3059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environment to run UNIX applications and scripts on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y integrated with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300 utilitie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software development 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for more than 1900 UNIX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U is freely downloadable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windowsserversystem/sfu/download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10B0-5347-4336-8ED8-8374A887B6D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ls: KornShell and C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languages: awk, perl, sed, and Tcl/T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 tools: rsh, rlogin, telnet and x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ch tools: At, cron and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9585-7AEF-40F0-9576-E541749196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SD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1900+ interfa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I C, POSIX.1 and POSIX.2 interfa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tools: make, RCS, lex, yacc, cc, c89, nm, ar, str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ers: gcc, g++, g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 curses libr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D-style sockets library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1R5 libraries and header fi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Visual C/C++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7183-2546-485D-BCEC-B1F9C9990F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oir, Understand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ior, Leveraging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reg Stemp, Dean Tsaltas, and Bob Wells (Microsoft Corporation)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than Wilansky (Network Design Group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-BoldMT"/>
              </a:rPr>
              <a:t>WMI Scripting clin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Management Instrumentation (from pp. 2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MI Software Developers Kit (SDK)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s about UNIX scripting on Windows in Unit OS-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1034-FB1C-4F19-B8E2-765701AD9F36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Introduc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ript is a sequence of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a program, but its not comp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s are dynamically interpreted by a scripting eng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scripts are plain-text source and not compiled, they are easy to change and to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6E31-F40F-4688-8ACA-47852F5497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Suppor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support requ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ngine that reads the scripting language and interpret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via the scripting engine to interactive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includes an extensible scripting eng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upports VB (Visual Basic) and J (Java) 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rich interaction with operating system environment via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426E-D585-4840-B169-6B3803CA26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Verdana"/>
              </a:rPr>
              <a:t>Microsoft Windows Management Instrumentation (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MI is the core management-enabling technology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ilt into Windows 2000, Windows XP, and Windows Server 200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iginally released in 1998 as an add-on with Windows NT 4.0 Service Pack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industry stand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seen by the Distributed Management Task Force (DMT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most all Windows resources can be accessed, configured, managed, and monitored via W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F429-0774-4B7C-BB93-90445991A7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Backgroun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5345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an implementation of Web-Based Enterprise Management (WBEM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a standard that the Distributed Management Task Force (DMTF) de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was added to address two short-comings in previous versions of 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monitoring 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in Windows 2000 an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on for NT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version available Win9x/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1478-D1E2-42A1-A318-C8250D3EA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-based scripts using COM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cript Host / VBScript / ActivePe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-in WMI tool with XP (except Home Edition) and Server 2003: WMI Console (WMI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helps to retrieve performance data, manage event logs, file systems, printers, processes, registry settings, scheduler, security, services, shares, and numerous other operating system components and configuration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-based scripts can manage network services such as DNS, DHCP, and SNMP-enabled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483E-40E1-4B79-84D2-44B65AFE9D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health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can monitor and respond to event log entries as they occur, file system and registry modifications, and other real-time operating system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and notifications are to WMI what SNMP traps are in the SNMP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s can manage Microsoft Application Center, Operations Manager, Systems Management Server, Internet Information Server, Exchange Server, and 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9F5D-32A2-4F4F-AC04-4540EF629D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cp:lastPrinted>2005-12-20T20:50:16Z</cp:lastPrinted>
  <dcterms:modified xsi:type="dcterms:W3CDTF">2006-02-07T23:51:05Z</dcterms:modified>
  <cp:revision>116</cp:revision>
  <dc:subject>Windows Operating Systems Internals Course</dc:subject>
  <dc:title>Unit OS 12: Scripting</dc:title>
</cp:coreProperties>
</file>